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680-74EE-4645-B39B-82A2596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03C-5913-4F44-B293-6224B318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81D-BEDE-4FE9-923A-8AC6D702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390-11C5-4275-BD8E-957217CE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9A2-4729-4B32-82DD-873994A4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893D-F4F5-499B-9C22-FAFCB72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F34F-FB96-4A45-9821-56BC887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A9A-51B7-4CEB-9DDD-BEFB59E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15D-7D60-4B1F-9A97-43A2C0B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7D20-FDB1-41DF-B6F8-996686D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F75-7ABA-4B2A-8E8B-FDC5AE6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41B-4A4D-48FA-8A66-AB6B9F9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06D4-8CF7-4FEB-B3B8-7F4C0B7B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B34-F281-47FD-B0D9-419D46B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C8CB-7C5C-4EA4-8036-EA6D38CE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08A0-26BC-4518-8168-039C43FA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2C1E-4390-42F6-9434-2687EF7D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5FA-EAC7-4003-9815-875BBE42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CD7-C357-4505-88AB-5B28510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B25-DAFB-4EA6-AE97-FF1F722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F34-F42D-4091-8B87-8C08932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4A7-6214-4A49-9682-AFC5725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C89-5026-4101-9F18-65FC7076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2AE-EAE4-4C65-BF8C-0005C46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5026-150F-4C6B-A363-E11BAEAD97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90A-B631-4F75-BC9C-62EF2939FC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toon.com/show/dkwK8d8Pf3I/multiple-inligences-theory/#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2QtSbP4FR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ultiple Intelligences (MI)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2997000"/>
            <a:ext cx="6248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sentation of H. Gardner’s the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keria Sel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keriaselimi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Pluraliz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topic taught in multiple ways reaches many student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rough understanding of a topic means several ways of thinking it, thus, use of multiple intelligences.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 of student-centered activities associated to the different learning pro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dily/Kinesthet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ce, pantomime, play, role play, puppet s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bate, interview, play, role pl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ary, journal, poem, time-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guistic/Verb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ry tale, fiction story, poem, report, play, deb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151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ical/Mathemat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rt, mind map, riddle, puzzle, diagr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ng, poem, role play, fil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ura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orama, field study, collection of fossils, insects etc, photo ess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atial/Vis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oon, chart, maze, mobile, pictures, coll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multiple%20intelligenc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.wikipedia.org/wiki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rd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niu.edu/facdev/resources/guide/learning/howard_gardner_theory_multiple_intelligences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scholar.google.gr/scholar_url?hl=en&amp;q=http://ftp.beitberl.ac.il/~bbsite/misc/ezer_anglit/klali/99_89.doc&amp;sa=X&amp;scisig=AAGBfm2Rxoafv8U4DZICKpuZbYWTjHTy-g&amp;oi=scholarr&amp;ei=_xBaVMXiN8vJPZ7mgfgJ&amp;ved=0CB0QgAMoAT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lation between Multiple Intelligences Theory and Methods of EL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Gasm Alseed Ahm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ernational Journal of Learning and Teach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 4, issue 2 (2012) 26-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177336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s of Mind: The Theory of Multiple Intelligences, H. Gardner, 1983, Basic Books, New Y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ultipleintelligencesoasis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ducation.com/reference/article/Gardners-multiple-intelligenc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870520" y="6155640"/>
            <a:ext cx="32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195640" y="6216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://www.powtoon.com/show/dkwK8d8Pf3I/multiple-inligences-theory/#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four-brothers-WEB"/>
          <p:cNvPicPr/>
          <p:nvPr/>
        </p:nvPicPr>
        <p:blipFill>
          <a:blip r:embed="rId2"/>
          <a:stretch/>
        </p:blipFill>
        <p:spPr>
          <a:xfrm>
            <a:off x="1042920" y="836640"/>
            <a:ext cx="6840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ifferentiated learning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osophy for effective teaching that involves providing different students with different ways to lear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fferent learning nee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ized instru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rooms responsive to student variety in readiness levels, interests and learning prof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sks addressing students’ individual need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oward E. Gardner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father of MI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986280" y="2543040"/>
            <a:ext cx="1171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4276800" y="2986200"/>
            <a:ext cx="590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gardner"/>
          <p:cNvPicPr/>
          <p:nvPr/>
        </p:nvPicPr>
        <p:blipFill>
          <a:blip r:embed="rId1"/>
          <a:stretch/>
        </p:blipFill>
        <p:spPr>
          <a:xfrm>
            <a:off x="755640" y="17002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324000" y="45795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ard Earl Gardn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born July 11, 1943) is an American developmental psychologist and a professor at Harvard University. He introduced his theory of Multiple Intelligences in his boo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ames of Mind: The Theory of Multiple Intellig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98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38887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Screen-Shot-2013-06-24-at-12"/>
          <p:cNvPicPr/>
          <p:nvPr/>
        </p:nvPicPr>
        <p:blipFill>
          <a:blip r:embed="rId1"/>
          <a:stretch/>
        </p:blipFill>
        <p:spPr>
          <a:xfrm>
            <a:off x="900000" y="90792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12760" y="228780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Gardner himself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uman beings possess not just a single intelligence…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… are better described as having a set of  relatively autonomous intelligences.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2286000" y="492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s://www.youtube.com/watch?v=l2QtSbP4F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0" y="564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s://www.youtube.com/watch?v=l2QtSbP4F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PENSAMIENTO-CREATIVO-1"/>
          <p:cNvPicPr/>
          <p:nvPr/>
        </p:nvPicPr>
        <p:blipFill>
          <a:blip r:embed="rId2"/>
          <a:stretch/>
        </p:blipFill>
        <p:spPr>
          <a:xfrm>
            <a:off x="2195640" y="549360"/>
            <a:ext cx="489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multiple-intelligences-learning-sty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educators make use of MIT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ividualiz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ing and assessment that bring out each child’s capac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0:51:23Z</dcterms:created>
  <dc:creator>PERIBIN</dc:creator>
  <dc:description/>
  <dc:language>en-US</dc:language>
  <cp:lastModifiedBy>Annie!</cp:lastModifiedBy>
  <dcterms:modified xsi:type="dcterms:W3CDTF">2014-11-25T16:38:04Z</dcterms:modified>
  <cp:revision>25</cp:revision>
  <dc:subject/>
  <dc:title>Multiple Intelligences (MI)</dc:title>
</cp:coreProperties>
</file>